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E5F8-25CF-4104-BFD1-97FB043D9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41A1-555E-47F8-B9D6-955D4AA30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796F-0AFA-4641-A34E-A06D8BE57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CF79-C98E-4D99-A48F-C98BCB225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F0CA-307F-49FE-84CB-AAC55CC2B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AAA8-B096-41A4-93CF-142319934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67C7-E1B0-48D2-9CE3-E5F4180ED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D9C3-4541-412C-A832-10B94B7EE5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1515-9135-4E44-885B-5666D63CEB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6D65-9BA7-47AF-93DF-909451DF60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C9D2-5B8A-4685-84E5-E905056E01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4E13-F3C0-4133-BED6-CB68609F4D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6380-19A4-4EA4-93B4-D4F367B4ED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A7FC-5816-4CCC-ABFF-0E949D878F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C9DE-7485-4706-A3BC-5FC25104B6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6396-F5AD-4C30-95DD-CF55E47EE7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1F6F-C633-46CA-BFF8-B4E364D73D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6CB5-41B6-4B76-96D2-B2021C0BC8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4000-3E27-4C7C-A820-E09E6D9364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57F9-C44C-4095-90F0-029E9F7E10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FD01-060E-41AA-B467-66BB7F8FAC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C3B1-339D-4BF5-8E0C-B68AAB3A9E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5FBB-AAE3-4E53-B7C5-9245771E885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2F78-2700-4C5E-85FE-45040EE11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3D39-B556-419C-9536-FE56951C2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99DF-BB6B-4026-B705-6CF2B936C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6EE1-8440-4C9F-A1E6-267987E0AE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3195-26EA-4B8A-BF58-0CA109E9E1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0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ey challenges in smallholder cereal-legume-livestock systems: Mal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22392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basket of Mali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llet &amp; Sorghum – 37%  of national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ze – 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tton – 95% (Koutiala is cotton capital of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ng influence of CMDT on Farming systems in Koutiala and Bougouni (inputs, services, promotion of animal traction for cotton produc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nsifying systems in terms of use of input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84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rief background on project region - Sikass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819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ssue: Predominance of young population with children almost 20% of the population and about 75 % below 30 years in some “communes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nutrition of children under 5 yea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 labour for farming because young people are highly mobile with tendency to move to urban centres (rural exodu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cio-economic &amp; Institutional challeng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2819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21456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ssue: Crop farming and livestock are the main sources of household income in Koutiala and Bougouni with cotton the leading sour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44280" indent="-214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addition of agricultural products particularly cere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4280" indent="-214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ulnerability to market shocks due to heavy dependence on revenue from co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4280" indent="-214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ersification to reduce dependence on co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4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cio-economic &amp; Institutional challeng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685800" y="2438280"/>
          <a:ext cx="7854840" cy="185436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ric.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solidFill>
                      <a:srgbClr val="ec82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utiala (% househol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solidFill>
                      <a:srgbClr val="ec82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ugouni (% househol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solidFill>
                      <a:srgbClr val="ec821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rganic fertil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tic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t 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S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07c03"/>
                      </a:solidFill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07c03"/>
                      </a:solidFill>
                    </a:lnR>
                    <a:lnT w="5760">
                      <a:solidFill>
                        <a:srgbClr val="f07c03"/>
                      </a:solidFill>
                    </a:lnT>
                    <a:lnB w="5760">
                      <a:solidFill>
                        <a:srgbClr val="f07c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62080" y="1295280"/>
            <a:ext cx="8772480" cy="1447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685800" y="4343400"/>
            <a:ext cx="79246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agric. inputs for crops other than cotton  and access to financial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farmers’ associations and private input suppliers to reduce dominance of CM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d systems including planting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819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ssue: Transhumance is important in both locations particularly for cattle with presence of herders from the Sah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64440" indent="-21924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competition over pastures and water leading to farmer-herder confli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64440" indent="-21924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the capacity of local institutions in conflict management, and in documentation and enforcement of local 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6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cio-economic &amp; Institutional challeng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2124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ssue: Major constraints to crop production in the study sites are insufficient agricultural inputs, unfavourable climatic condition and soil degrad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34200" indent="-2124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soil &amp; water management e.g. increasing soil organic matter , nutrient &amp; water use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4200" indent="-2124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roductivity for household food security via improved varieties and agronomic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4200" indent="-2124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harvest management to reduce lo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4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4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iophysical challeng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1918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ssue: Major constraints to livestock production in the study sites are feed scarcity, diseases and low genetic potential of local bree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1918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hallenges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-1918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dging the feed gap through food-feed crop, fodder production including shrubs, crop residue management, strategic supple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-1918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taining traction animals in good body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-1918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veterinary services, improved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-1918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grading local br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4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iophysical challeng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7:48:16Z</dcterms:created>
  <dc:creator>IITA</dc:creator>
  <dc:description/>
  <dc:language>en-US</dc:language>
  <cp:lastModifiedBy>LeBorgne, Ewen (ILRI)</cp:lastModifiedBy>
  <cp:lastPrinted>2011-10-06T11:45:23Z</cp:lastPrinted>
  <dcterms:modified xsi:type="dcterms:W3CDTF">2012-10-26T14:44:36Z</dcterms:modified>
  <cp:revision>18</cp:revision>
  <dc:subject/>
  <dc:title>Slide 1</dc:title>
</cp:coreProperties>
</file>